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475-B6E5-4933-A046-3980CF74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8D3-22A6-4087-BD39-EDB7A4D3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574-58E7-4D0A-AEFC-98923B62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6FD-0339-47E3-A000-A81982B6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C6ED-FEEC-4933-8FBE-C8D4F800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2039-D910-4002-9D04-9710AB75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BF03-29E8-4CF2-8B76-30AD10C5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A6FD-4DAE-476A-A86C-A17EC0A2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13CE-CAF2-4A95-81FC-9C8BFA88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B0A3-A046-4C33-8D31-CC2DEE5E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CBE-CFC4-449A-B66E-5A56302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8BF-DDFC-48AC-B220-C4CD3239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8D59-421A-415D-8AA4-839F5DE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5A4A-518D-4144-A29C-14B4507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95BC-4537-4FB3-B481-49B03269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3C4F-E6A4-41B3-8D29-B0FB1E54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EE23-3020-4E84-AFC5-DD67F10D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0FE-05ED-419B-9742-0BB29C7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818-5F17-470C-9AA0-70CCA6C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640-4EBE-436E-8BD9-3B67EAF9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A72-990A-4B8F-BAB2-A91A7A5D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C5F-1459-4743-9728-133807C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25D-6651-44AA-85DC-5549C9AD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C8D-542C-489E-8DD5-C2EBB17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D77-E3F0-4374-87AD-2B8071ABCE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A845-F30F-4D70-92E6-DF8FFD7E56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wmf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ATER AND LAND BIOM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~ Ab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ral Reefs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so many animals in the coral re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 down there cause it’s so wa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reef is divers that come down and take pics of the f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343240" cy="147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2085840" cy="1400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3619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ep Se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eper you go in to the ocean the colder it 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eper you get the stranger the animals 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all ways dark the deeper you 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1981440" cy="1425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867280" y="1752480"/>
            <a:ext cx="1752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4952880" y="-13716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opical Rainfore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048120" y="3200040"/>
            <a:ext cx="3657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The rain forest is a wet place that stays warm all year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1371600" y="1066680"/>
            <a:ext cx="3124080" cy="2003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572160"/>
            <a:ext cx="4572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-1523880" y="434340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-2819520" y="60199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me of the animals are for instints a lion.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live in a Tropical climate so they have more food and water.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620120" y="380880"/>
            <a:ext cx="2181240" cy="1409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72200" y="1828800"/>
            <a:ext cx="43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me of the tropical rainforest get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c,that is one cooled rain fo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8381880" y="358128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60880" y="533412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un fact is that cact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grow in the rainfor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’s to much rain and 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eally hot t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ciduous Forest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28600" y="335232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eciduous forest have many colors and little amount of r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gets cooler in the fall and winter unlike the rain fo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ides animals staying up all year they hibern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91440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67280" y="55627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ead of rain all ye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the rainforest its all the seas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8240" y="1981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deer come here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inter cause there is 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preda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19920" y="3429000"/>
            <a:ext cx="2361960" cy="193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62120" y="4648320"/>
            <a:ext cx="1800000" cy="1447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55000" y="5334120"/>
            <a:ext cx="39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e fact about the deciduous for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that creatures hibernat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cores ther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re but this is gust two of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assland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81240" y="2743200"/>
            <a:ext cx="327636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bout two hundred years ago  tall grass covered all most all of the Midw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438280" cy="1959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2960" y="2590920"/>
            <a:ext cx="34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n the Grasslands there are v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few trees there. Cause the so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s bad there and so its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781680" y="914400"/>
            <a:ext cx="2133720" cy="15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934320" y="3581280"/>
            <a:ext cx="1809720" cy="1381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93080" y="3809880"/>
            <a:ext cx="43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act about this land is that m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it has became farm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ll they do have a lot of land, so the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it as farm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276720" y="685800"/>
            <a:ext cx="2200320" cy="1438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52880" y="510552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ome of the animals are bi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here a lot more but there a l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mor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hey live here cause ther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of grass to 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Taiga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327672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kind of biome covers most of Canada and Russi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cold here and sort of d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133720" cy="1521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12600" y="5105520"/>
            <a:ext cx="30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lot of pines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edles makes fo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rough out the year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157032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92520" y="1676520"/>
            <a:ext cx="45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Some of the animals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bears live 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They sleep during the winter cause ther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Les fo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786720"/>
            <a:ext cx="190440" cy="14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610480" y="529272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6858000"/>
            <a:ext cx="100080" cy="7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894240" y="2503440"/>
            <a:ext cx="61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HTMLTextArea2" descr=""/>
          <p:cNvPicPr/>
          <p:nvPr/>
        </p:nvPicPr>
        <p:blipFill>
          <a:blip r:embed="rId6"/>
          <a:stretch/>
        </p:blipFill>
        <p:spPr>
          <a:xfrm>
            <a:off x="0" y="6791400"/>
            <a:ext cx="76320" cy="13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5181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act pine needles has this w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 on them so in the winter they don’t fall off as eas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3352680" y="3581280"/>
            <a:ext cx="2000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sert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12408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desert is all ways hot in the day, but at night it gets co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438560" cy="1447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06600" y="3465360"/>
            <a:ext cx="31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esert has less then 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h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24480" y="2057400"/>
            <a:ext cx="1981440" cy="144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19120" y="5562720"/>
            <a:ext cx="49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of the animals such as lizards live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ason wy is cause it’s so ho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86400" y="4191120"/>
            <a:ext cx="1628640" cy="1314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40" y="579132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act for the desert i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f the largest deserts is in As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838080" y="4114800"/>
            <a:ext cx="21621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Tundra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327672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undra is vary cold with a little rain it’s more in the northern  areas in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200320" cy="1362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70200" y="2666880"/>
            <a:ext cx="36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Some of the animals h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are fox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There is a a right amount for ea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anim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857600" cy="1419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5880" y="5410080"/>
            <a:ext cx="41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Some of the animals need to m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o other parts of the tund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nly cause they  ether don’t have w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hey need here or they need shel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2314440" cy="1257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48840" y="3886200"/>
            <a:ext cx="32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act of the tundra i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short sea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don’t have it as lo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 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581280" y="1905120"/>
            <a:ext cx="1638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5562720"/>
            <a:ext cx="34290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rivers there is a lot of wat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ome of th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rivers has lots of plants in 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2361960" cy="1406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2040" y="5942160"/>
            <a:ext cx="31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f you think of it there is a l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f plants and animal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live in the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248520" y="4191120"/>
            <a:ext cx="2381040" cy="147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04200" y="2514600"/>
            <a:ext cx="38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Some of the animals that l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n the water are fi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So some of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live  in fast waters and some in slow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486400" y="1066680"/>
            <a:ext cx="2009880" cy="1457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2720" y="2209680"/>
            <a:ext cx="344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Did you know that ott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live in the wa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here the ones how help cat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Fish so they don’t 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ver popul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914400" y="609480"/>
            <a:ext cx="18669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Wet land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4760" y="5029200"/>
            <a:ext cx="2819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wet lands is all most covered with wa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wet lands are flooded ever year cause there’s so much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190476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184000" y="5562720"/>
            <a:ext cx="368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many kind’s of wet 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wetlands has a lot of saw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28600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02040" y="2017800"/>
            <a:ext cx="32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animals her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igato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igators are big sca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629400" y="380880"/>
            <a:ext cx="1752480" cy="1409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80" y="2209680"/>
            <a:ext cx="480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ne of the important parts of the wet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re estua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estuaries are streams that flow into a oce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914400" y="685800"/>
            <a:ext cx="2076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5:41Z</dcterms:created>
  <dc:creator>AK3463</dc:creator>
  <dc:description/>
  <dc:language>en-US</dc:language>
  <cp:lastModifiedBy>AK3463</cp:lastModifiedBy>
  <dcterms:modified xsi:type="dcterms:W3CDTF">2012-11-12T19:55:08Z</dcterms:modified>
  <cp:revision>9</cp:revision>
  <dc:subject/>
  <dc:title>WATER AND LAND BIOMES</dc:title>
</cp:coreProperties>
</file>